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EBB2-8332-4AF4-B23A-20E0F6FE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8AD-4A9D-4F9D-B17B-EFEF7F9A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27F-E96D-4554-9F0A-ED4A4EB7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D3E-00D6-41DC-8298-9FF2169B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5A5-A972-4C72-BA4D-E1CB013E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F88-19F8-466A-966F-02710A56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80D-B76E-46F9-8C45-FBBC8EA8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2CBF-7BE7-42DD-A377-51B87377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EA7-6F92-45A1-AA69-5CFCE5A7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3DB-25FE-4130-8BB7-D30F567E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5AB-15BD-45A1-9DAB-A5CDC00C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DD4-D1D4-45C6-8D0C-9D68FF4C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073A-1B38-4469-8BEA-C495B67534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chemistryland.com/CHM107/Introduction/Audience/3dGlasses512.jpg&amp;imgrefurl=http://www.chemistryland.com/CHM107/Introduction/Audience/Audience.html&amp;usg=__2DPvfKRHnXlkluH9behfLAolM0g=&amp;h=410&amp;w=512&amp;sz=58&amp;hl=en&amp;start=1&amp;zoom=1&amp;itbs=1&amp;tbnid=PBXEc4fPbFQS_M:&amp;tbnh=105&amp;tbnw=131&amp;prev=/images%3Fq%3Daudiences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.uk/imgres?imgurl=http://www.motivatevalmorgan.com/typo3temp/pics/538ed02adf_rounded.jpg&amp;imgrefurl=http://www.motivatevalmorgan.com/uae/audiences/&amp;usg=__MxGluX59rUm-uceQJ5-TSFBhFa8=&amp;h=300&amp;w=540&amp;sz=83&amp;hl=en&amp;start=13&amp;zoom=1&amp;itbs=1&amp;tbnid=kXWmdRYDDG8sbM:&amp;tbnh=73&amp;tbnw=132&amp;prev=/images%3Fq%3Daudiences%26hl%3Den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.uk/imgres?imgurl=http://zebedee.e-learndesign.co.uk/~dfid/file.php/14/Crowd.png&amp;imgrefurl=http://zebedee.e-learndesign.co.uk/~dfid/course/view.php%3Fid%3D14&amp;usg=__Bh-zq_5o3JbgIaFyLHTMgQ_WLSo=&amp;h=398&amp;w=678&amp;sz=558&amp;hl=en&amp;start=33&amp;zoom=1&amp;itbs=1&amp;tbnid=939llzHTZxLFKM:&amp;tbnh=82&amp;tbnw=139&amp;prev=/images%3Fq%3Daudiences%26start%3D20%26hl%3Den%26sa%3DN%26gbv%3D2%26ndsp%3D20%26tbs%3Disch: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co.uk/imgres?imgurl=http://www.efp-online.com/images/photos/gallery/2008/pe_madrid/02_audience.jpg&amp;imgrefurl=http://www.efp-online.com/holdl.php%3Fwe_objectID%3D115&amp;usg=__23oSgApecKQDcin449m0MhPiY3E=&amp;h=310&amp;w=440&amp;sz=54&amp;hl=en&amp;start=16&amp;zoom=1&amp;itbs=1&amp;tbnid=RuElsaWvL_LoDM:&amp;tbnh=89&amp;tbnw=127&amp;prev=/images%3Fq%3Daudience%26hl%3Den%26gbv%3D2%26tbs%3Disch: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rtsfutures.org.uk/media/images/production/0000/2585/This_Morning_lightbox.jpg&amp;imgrefurl=http://www.rtsfutures.org.uk/screenings/2585&amp;usg=__nH58Ed-U6_RTUGEmI10ZclXK9m4=&amp;h=356&amp;w=468&amp;sz=49&amp;hl=en&amp;start=3&amp;zoom=1&amp;itbs=1&amp;tbnid=TQGDekJCVkTbfM:&amp;tbnh=97&amp;tbnw=128&amp;prev=/images%3Fq%3Dthis%2Bmorning%26hl%3Den%26gbv%3D2%26tbs%3Disch: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efp-online.com/images/photos/gallery/2008/pe_madrid/02_audience.jpg&amp;imgrefurl=http://www.efp-online.com/holdl.php%3Fwe_objectID%3D115&amp;usg=__23oSgApecKQDcin449m0MhPiY3E=&amp;h=310&amp;w=440&amp;sz=54&amp;hl=en&amp;start=16&amp;zoom=1&amp;itbs=1&amp;tbnid=RuElsaWvL_LoDM:&amp;tbnh=89&amp;tbnw=127&amp;prev=/images%3Fq%3Daudience%26hl%3Den%26gbv%3D2%26tbs%3Disch: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google.co.uk/imgres?imgurl=http://www.efp-online.com/images/photos/gallery/2008/pe_madrid/02_audience.jpg&amp;imgrefurl=http://www.efp-online.com/holdl.php%3Fwe_objectID%3D115&amp;usg=__23oSgApecKQDcin449m0MhPiY3E=&amp;h=310&amp;w=440&amp;sz=54&amp;hl=en&amp;start=16&amp;zoom=1&amp;itbs=1&amp;tbnid=RuElsaWvL_LoDM:&amp;tbnh=89&amp;tbnw=127&amp;prev=/images%3Fq%3Daudience%26hl%3Den%26gbv%3D2%26tbs%3Disch:1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efp-online.com/images/photos/gallery/2008/pe_madrid/02_audience.jpg&amp;imgrefurl=http://www.efp-online.com/holdl.php%3Fwe_objectID%3D115&amp;usg=__23oSgApecKQDcin449m0MhPiY3E=&amp;h=310&amp;w=440&amp;sz=54&amp;hl=en&amp;start=16&amp;zoom=1&amp;itbs=1&amp;tbnid=RuElsaWvL_LoDM:&amp;tbnh=89&amp;tbnw=127&amp;prev=/images%3Fq%3Daudience%26hl%3Den%26gbv%3D2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prs.heacademy.ac.uk/images/news.jpg&amp;imgrefurl=http://www.prs.heacademy.ac.uk/news/&amp;usg=__66etgdCQMZZdiTBuSt_TbYuMejQ=&amp;h=454&amp;w=454&amp;sz=55&amp;hl=en&amp;start=1&amp;zoom=1&amp;itbs=1&amp;tbnid=pCzlr53nR2eaAM:&amp;tbnh=128&amp;tbnw=128&amp;prev=/images%3Fq%3Dnews%26hl%3Den%26gbv%3D2%26tbs%3Disch:1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google.co.uk/imgres?imgurl=http://bnb.bpweb.net/N24/BBC%2520NEWS%252024_20060310-165413__0001.jpg&amp;imgrefurl=http://www.ukfree.tv/showchannel.php%3Fid%3DN24&amp;usg=__7rFKNVIITZoQSwpMevirxamb2Mw=&amp;h=576&amp;w=1024&amp;sz=109&amp;hl=en&amp;start=2&amp;zoom=1&amp;itbs=1&amp;tbnid=ttcjoNF28OO14M:&amp;tbnh=84&amp;tbnw=150&amp;prev=/images%3Fq%3DTV%2Bnews%2BBBC%26hl%3Den%26gbv%3D2%26tbs%3Disch:1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google.co.uk/imgres?imgurl=http://difference.blogs.glam.ac.uk/files/2010/03/JonSpaceHoppers2.jpg&amp;imgrefurl=http://difference.blogs.glam.ac.uk/&amp;usg=__LQtvGcYg0WzkG4ZbkhtvX9dAKbY=&amp;h=637&amp;w=485&amp;sz=277&amp;hl=en&amp;start=17&amp;zoom=1&amp;itbs=1&amp;tbnid=D4pWy1WgHg0T7M:&amp;tbnh=137&amp;tbnw=104&amp;prev=/images%3Fq%3Dscience%2Btv%2Bprogramme%26hl%3Den%26gbv%3D2%26tbs%3Disch:1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blog.usaseopros.com/wp-content/uploads/2009/08/water-cooler-gossip.jpg&amp;imgrefurl=http://blog.usaseopros.com/tag/twitter/&amp;usg=__My0Uy_EqfGAuVljsRitHeRoYX3k=&amp;h=255&amp;w=240&amp;sz=16&amp;hl=en&amp;start=5&amp;zoom=1&amp;itbs=1&amp;tbnid=zRhhPkuRN6bREM:&amp;tbnh=111&amp;tbnw=104&amp;prev=/images%3Fq%3Dwater%2Bcooler%2Bgossip%26hl%3Den%26gbv%3D2%26tbs%3Disch: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google.co.uk/imgres?imgurl=http://www.comedy.co.uk/images/library/people/300/i/inbetweeners_interview4.jpg&amp;imgrefurl=http://www.comedy.co.uk/news/story/00000350/simon_bird_may_quit_the_inbetweners/&amp;usg=__5GMBRIsCtXxCQx6TgSOJOfaVHOo=&amp;h=400&amp;w=300&amp;sz=39&amp;hl=en&amp;start=8&amp;zoom=1&amp;itbs=1&amp;tbnid=Ac4jqzISHooP_M:&amp;tbnh=124&amp;tbnw=93&amp;prev=/images%3Fq%3Dinbetweeners%26hl%3Den%26gbv%3D2%26tbs%3Disch:1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content.paulnixon.org/images/content/jeff-stelling-v1.jpg&amp;imgrefurl=http://www.paulnixon.org/archive/2008/Nov.aspx&amp;usg=__eXlUtm20spkLvzbVTiGBsTvUY1k=&amp;h=276&amp;w=460&amp;sz=22&amp;hl=en&amp;start=2&amp;zoom=1&amp;itbs=1&amp;tbnid=zbA8KE997AxT6M:&amp;tbnh=77&amp;tbnw=128&amp;prev=/images%3Fq%3Dcountdown%26hl%3Den%26gbv%3D2%26tbs%3Disch:1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d60093"/>
                </a:solidFill>
                <a:uFillTx/>
                <a:latin typeface="Comic Sans MS"/>
              </a:rPr>
              <a:t>Audie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AS Media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3dGlasses5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700360" cy="2165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538ed02adf_round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9080" y="5396040"/>
            <a:ext cx="2644920" cy="146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row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22880"/>
            <a:ext cx="2771640" cy="1635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02_audienc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59640" y="0"/>
            <a:ext cx="2484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-images.warwick.ac.uk/fac/cross_fac/prizeforwriting/management/david-morley-colour-high-re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184560"/>
          </a:xfrm>
          <a:prstGeom prst="rect">
            <a:avLst/>
          </a:prstGeom>
          <a:ln w="0">
            <a:noFill/>
          </a:ln>
        </p:spPr>
      </p:pic>
      <p:sp>
        <p:nvSpPr>
          <p:cNvPr id="72" name="Rounded Rectangular Callout 2"/>
          <p:cNvSpPr/>
          <p:nvPr/>
        </p:nvSpPr>
        <p:spPr>
          <a:xfrm>
            <a:off x="2786040" y="428760"/>
            <a:ext cx="3500640" cy="2571480"/>
          </a:xfrm>
          <a:prstGeom prst="wedgeRoundRectCallout">
            <a:avLst>
              <a:gd name="adj1" fmla="val -78509"/>
              <a:gd name="adj2" fmla="val 3648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preferred reading is the reading media producers hope audiences will take from the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i18.tinypic.com/8e1g504.jpg"/>
          <p:cNvPicPr/>
          <p:nvPr/>
        </p:nvPicPr>
        <p:blipFill>
          <a:blip r:embed="rId2"/>
          <a:stretch/>
        </p:blipFill>
        <p:spPr>
          <a:xfrm>
            <a:off x="1428840" y="3359160"/>
            <a:ext cx="62150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www-images.warwick.ac.uk/fac/cross_fac/prizeforwriting/management/david-morley-colour-high-re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184560"/>
          </a:xfrm>
          <a:prstGeom prst="rect">
            <a:avLst/>
          </a:prstGeom>
          <a:ln w="0">
            <a:noFill/>
          </a:ln>
        </p:spPr>
      </p:pic>
      <p:sp>
        <p:nvSpPr>
          <p:cNvPr id="75" name="Rounded Rectangular Callout 2"/>
          <p:cNvSpPr/>
          <p:nvPr/>
        </p:nvSpPr>
        <p:spPr>
          <a:xfrm>
            <a:off x="2786040" y="428760"/>
            <a:ext cx="4500720" cy="2571480"/>
          </a:xfrm>
          <a:prstGeom prst="wedgeRoundRectCallout">
            <a:avLst>
              <a:gd name="adj1" fmla="val -78509"/>
              <a:gd name="adj2" fmla="val 3648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udience members from outside the target audience may reject the preferred r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eiving their own alternativ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http://www.facets.org/images/super%20size%20me.jpg"/>
          <p:cNvPicPr/>
          <p:nvPr/>
        </p:nvPicPr>
        <p:blipFill>
          <a:blip r:embed="rId2"/>
          <a:stretch/>
        </p:blipFill>
        <p:spPr>
          <a:xfrm>
            <a:off x="2857680" y="3143160"/>
            <a:ext cx="3714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-images.warwick.ac.uk/fac/cross_fac/prizeforwriting/management/david-morley-colour-high-re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184560"/>
          </a:xfrm>
          <a:prstGeom prst="rect">
            <a:avLst/>
          </a:prstGeom>
          <a:ln w="0">
            <a:noFill/>
          </a:ln>
        </p:spPr>
      </p:pic>
      <p:sp>
        <p:nvSpPr>
          <p:cNvPr id="78" name="Rounded Rectangular Callout 2"/>
          <p:cNvSpPr/>
          <p:nvPr/>
        </p:nvSpPr>
        <p:spPr>
          <a:xfrm>
            <a:off x="2786040" y="428760"/>
            <a:ext cx="4500720" cy="2571480"/>
          </a:xfrm>
          <a:prstGeom prst="wedgeRoundRectCallout">
            <a:avLst>
              <a:gd name="adj1" fmla="val -78509"/>
              <a:gd name="adj2" fmla="val 3648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gotiated reading is when audiences acknowledge the preferred reading, but modify i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uit their own values and opi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instablogsimages.com/images/2007/08/01/how-healthy-is-your-fresh-salad-diet_9.jpg"/>
          <p:cNvPicPr/>
          <p:nvPr/>
        </p:nvPicPr>
        <p:blipFill>
          <a:blip r:embed="rId2"/>
          <a:stretch/>
        </p:blipFill>
        <p:spPr>
          <a:xfrm>
            <a:off x="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manhattanoffender.typepad.com/manhattanoffender/images/bigmac2.jpg"/>
          <p:cNvPicPr/>
          <p:nvPr/>
        </p:nvPicPr>
        <p:blipFill>
          <a:blip r:embed="rId3"/>
          <a:stretch/>
        </p:blipFill>
        <p:spPr>
          <a:xfrm>
            <a:off x="5214960" y="3541680"/>
            <a:ext cx="392904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coke-launches-new-advert-for-zero-lrg"/>
          <p:cNvPicPr/>
          <p:nvPr/>
        </p:nvPicPr>
        <p:blipFill>
          <a:blip r:embed="rId1"/>
          <a:stretch/>
        </p:blipFill>
        <p:spPr>
          <a:xfrm>
            <a:off x="0" y="320760"/>
            <a:ext cx="6877080" cy="63421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6948360" y="1557360"/>
            <a:ext cx="219564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is the PREFERRED read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NEGOCIATED read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OPPOSITIONAL reading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sumption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different media at different times of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what extent does the media organise your daily rout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plan any activities around particular media outp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This_Morning_lightb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5445000"/>
            <a:ext cx="157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january2009tv"/>
          <p:cNvPicPr/>
          <p:nvPr/>
        </p:nvPicPr>
        <p:blipFill>
          <a:blip r:embed="rId1"/>
          <a:stretch/>
        </p:blipFill>
        <p:spPr>
          <a:xfrm>
            <a:off x="971640" y="907920"/>
            <a:ext cx="5948280" cy="4579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7164360" y="1628640"/>
            <a:ext cx="180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the TV schedule and identify what groups are being addressed at particular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dienc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research is a vital part of the process concerned with discovering audience thoughts, needs, feelings and aspi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gives them a detailed picture of what texts will appeal to different audi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a text can be created/packaged in a way that will deliver it to the audience success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includes questionnaires, interviews and focus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02_audie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619280" cy="113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02_audienc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0"/>
            <a:ext cx="15476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tative data about audiences are broken down by institutions into demograph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ncludes age, social class, address and occup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s of socio-economic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 – professional, business and white col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1 – higher skilled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2 – lower skilled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 – semi and unskilled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840360" y="5013360"/>
            <a:ext cx="23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might you be pigeonholed as a media consumer using demographic categor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032360" cy="403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1767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ych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ystem for measuring consumers’ beliefs, opinions and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ead of counting age/gender/race it focuses on opinions on issues, religious beliefs, musical tastes, personality characteristic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are also called IAO variables (Interests, Attitudes and Opin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into audiences usually combines both demographics and psychograph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is the audience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media text is produced with an audience in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udience is the receiver of the text and interprets the message that’s conve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out the audience, there is no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02_audie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Youth Facts 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ge 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24000" y="620640"/>
            <a:ext cx="8424720" cy="59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dvertising companies claim they can </a:t>
            </a:r>
            <a:r>
              <a:rPr b="0" lang="en-GB" sz="2400" spc="-1" strike="noStrike">
                <a:solidFill>
                  <a:srgbClr val="ff5050"/>
                </a:solidFill>
                <a:latin typeface="Georgia"/>
              </a:rPr>
              <a:t>segmen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audiences on the basis of ‘socio-economic values’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Survivors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ose who want security and like 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Social Climbers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ose who have a strong materialistic drive and     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like status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Care Givers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ose who believe in ‘caring and sharing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Explorers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ose for whom personal growth and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influencing social change a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95280" y="765000"/>
            <a:ext cx="8280360" cy="58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ese socio-economic groups are based on the work of the American Psychologist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800" spc="-1" strike="noStrike">
                <a:solidFill>
                  <a:srgbClr val="ff5050"/>
                </a:solidFill>
                <a:latin typeface="Georgia"/>
              </a:rPr>
              <a:t>Abraham Maslow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and his idea of a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2800" spc="-1" strike="noStrike">
                <a:solidFill>
                  <a:srgbClr val="ff5050"/>
                </a:solidFill>
                <a:latin typeface="Georgia"/>
              </a:rPr>
              <a:t>‘Hierarchy of Needs’</a:t>
            </a:r>
            <a:r>
              <a:rPr b="1" lang="en-GB" sz="1800" spc="-1" strike="noStrike">
                <a:solidFill>
                  <a:srgbClr val="ff5050"/>
                </a:solidFill>
                <a:latin typeface="Georgia"/>
              </a:rPr>
              <a:t> (195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layers of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satisfy one before moving on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we all start at the bottom of Maslow’s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Maslow argues that many people stop at particular levels and never reach the top – self-actu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e unsatisfied needs are what motivate our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Maslow stated that the hierarchy was dynamic and reversible; the needs are not necessarily present in the same order in every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e audience is ‘active’ rather than ‘passiv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maslow"/>
          <p:cNvPicPr/>
          <p:nvPr/>
        </p:nvPicPr>
        <p:blipFill>
          <a:blip r:embed="rId1"/>
          <a:stretch/>
        </p:blipFill>
        <p:spPr>
          <a:xfrm>
            <a:off x="1476360" y="765000"/>
            <a:ext cx="5715000" cy="5801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318240" y="549360"/>
            <a:ext cx="45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aslow’s Hierarchy of Needs (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64360" y="472428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b security,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V="1">
            <a:off x="6084720" y="4941360"/>
            <a:ext cx="1079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68360" y="357336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eed to belong to a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1835280" y="407664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227640" y="2637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 esteem, status, respect and admiration of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5580000" y="306864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826920" y="134136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eed to succeed, to become what you wish to be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 flipH="1" flipV="1">
            <a:off x="2916000" y="206028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ommon-diesel-ad"/>
          <p:cNvPicPr/>
          <p:nvPr/>
        </p:nvPicPr>
        <p:blipFill>
          <a:blip r:embed="rId1"/>
          <a:stretch/>
        </p:blipFill>
        <p:spPr>
          <a:xfrm>
            <a:off x="539640" y="404640"/>
            <a:ext cx="4602240" cy="5991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5435640" y="765000"/>
            <a:ext cx="316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Which of </a:t>
            </a:r>
            <a:r>
              <a:rPr b="0" lang="en-GB" sz="3200" spc="-1" strike="noStrike">
                <a:solidFill>
                  <a:srgbClr val="ff5050"/>
                </a:solidFill>
                <a:latin typeface="Georgia"/>
              </a:rPr>
              <a:t>Maslow’s</a:t>
            </a: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needs do you think are being fulfilled in this advertis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360742~Nurse-Holding-Hypodermic-Needle-Posters"/>
          <p:cNvPicPr/>
          <p:nvPr/>
        </p:nvPicPr>
        <p:blipFill>
          <a:blip r:embed="rId1"/>
          <a:stretch/>
        </p:blipFill>
        <p:spPr>
          <a:xfrm>
            <a:off x="324000" y="2060640"/>
            <a:ext cx="2624040" cy="3494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Hypodermic Needle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32000" y="1341360"/>
            <a:ext cx="5545440" cy="59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GB" sz="2000" spc="-1" strike="noStrike">
                <a:solidFill>
                  <a:srgbClr val="ff5050"/>
                </a:solidFill>
                <a:latin typeface="Georgia"/>
              </a:rPr>
              <a:t>Hypodermic Needle theory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suggests that the media ‘inject’ ideas into a </a:t>
            </a:r>
            <a:r>
              <a:rPr b="0" lang="en-GB" sz="2000" spc="-1" strike="noStrike">
                <a:solidFill>
                  <a:srgbClr val="ff5050"/>
                </a:solidFill>
                <a:latin typeface="Georgia"/>
              </a:rPr>
              <a:t>passive audience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, like giving a patient a dru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Earliest academic studies of media audiences appeared in the 1920s and 193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e audience was seen as a ‘mass’ audience all consuming the same product and receiving the same ‘mass’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Propag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View reinforced by Orson Welles’s </a:t>
            </a:r>
            <a:r>
              <a:rPr b="0" i="1" lang="en-GB" sz="2000" spc="-1" strike="noStrike">
                <a:solidFill>
                  <a:srgbClr val="000000"/>
                </a:solidFill>
                <a:latin typeface="Georgia"/>
              </a:rPr>
              <a:t>The War of the Worlds’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broadcast on American radio in 19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Are we too sophisticated today? Ghostwatch – Halloween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Advertisers took the ‘hard sell’ approach – repeating the message often and loudl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Uses and Gratification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39640" y="1557360"/>
            <a:ext cx="81360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Research then led to a view that audiences weren’t passive and a ‘mass’ but were composed of different socia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e audience was now being seen as playing an active role in the interpretation of the media of particular media 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Audience now considered to be active instead of pa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e audience has a set of needs (Blumler and Katz 19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Di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Integration &amp; Social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Personal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Surveillance/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post-1218800-1209706419"/>
          <p:cNvPicPr/>
          <p:nvPr/>
        </p:nvPicPr>
        <p:blipFill>
          <a:blip r:embed="rId1"/>
          <a:stretch/>
        </p:blipFill>
        <p:spPr>
          <a:xfrm>
            <a:off x="5148360" y="4365720"/>
            <a:ext cx="3024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) SURVEILLANCE/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want to find out about society and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ne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1497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BBC%2520NEWS%252024_20060310-165413__0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4365720"/>
            <a:ext cx="2227320" cy="1247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JonSpaceHoppers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10560" y="4005360"/>
            <a:ext cx="1420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 INTEGRATION &amp;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nionship through identification with television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ant to find out more about the circumstances of other people so we can empathise/sympathise with the lives of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bility through discussion about television with other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water-cooler-goss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nbetweeners_interview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1145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tifi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) PERSON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ing reinforcement for personal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ing with a valued other in the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ining insight into one’s 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sticktown.com/mainsite/images/inkblot6.jpg"/>
          <p:cNvPicPr/>
          <p:nvPr/>
        </p:nvPicPr>
        <p:blipFill>
          <a:blip r:embed="rId1"/>
          <a:srcRect l="4767" t="6393" r="2383" b="7854"/>
          <a:stretch/>
        </p:blipFill>
        <p:spPr>
          <a:xfrm>
            <a:off x="428760" y="71280"/>
            <a:ext cx="835812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) DI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media for enjoyment, relaxation or just to fil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jeff-stelling-v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4645080"/>
            <a:ext cx="237636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1"/>
          <p:cNvPicPr/>
          <p:nvPr/>
        </p:nvPicPr>
        <p:blipFill>
          <a:blip r:embed="rId3"/>
          <a:stretch/>
        </p:blipFill>
        <p:spPr>
          <a:xfrm>
            <a:off x="684360" y="4653000"/>
            <a:ext cx="226512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dience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diences are often given the opportunity to interact with media tex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ting on a reality TV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ailing an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ing a letter to a local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ing part in a radio phon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a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ticipating on makeover progr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Full"/>
          <p:cNvPicPr/>
          <p:nvPr/>
        </p:nvPicPr>
        <p:blipFill>
          <a:blip r:embed="rId1"/>
          <a:stretch/>
        </p:blipFill>
        <p:spPr>
          <a:xfrm>
            <a:off x="7236000" y="2565360"/>
            <a:ext cx="127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Questions to ask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hom is the text addressed? What is the target aud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ssumptions about the audience’s characteristics are implicit within the t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ssumptions about the audience are implicit in the text’s scheduling or positio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what conditions is the audience likely to receive the text?  Does this impact upon the formal characteristics of the t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do you know or can you assume about the likely size and constituency of the aud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 probable and possible audience readings of the t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do you, as an audience member, read and evaluate the text? To what extent is your reading and evaluation influenced by your age/gender/background et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**Key terms*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and Gratifications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ypodermic Needl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low’s Hierarchy of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iche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ycho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6084720" y="4149720"/>
            <a:ext cx="19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 pages 268 – 28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d to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as a gro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e that you have been asked by a film company to provide the outline for a new film aimed at audiences between 18 and 25. Draw up an outline that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in situation/narrative of story and its dramatic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ptions of the main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s for 2 or 3 settings, explaining their visual impact, the reasons for using them and any technical difficulties that they may 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pening sequence of the film, explaining how it will attract the audience’s at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the ways in which the film will appeal to its target aud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ggest ways in which the film could be mark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farm3.static.flickr.com/2110/2515313276_afc444e01c.jpg?v=0"/>
          <p:cNvPicPr/>
          <p:nvPr/>
        </p:nvPicPr>
        <p:blipFill>
          <a:blip r:embed="rId1"/>
          <a:stretch/>
        </p:blipFill>
        <p:spPr>
          <a:xfrm>
            <a:off x="1714680" y="0"/>
            <a:ext cx="53575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868680" y="571680"/>
            <a:ext cx="77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McDonald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want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you to think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i18.tinypic.com/8e1g504.jpg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488520" y="357120"/>
            <a:ext cx="29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You may a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2050200" y="1214280"/>
            <a:ext cx="156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Or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919440" y="26431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You may disa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facets.org/images/super%20size%20me.jpg"/>
          <p:cNvPicPr/>
          <p:nvPr/>
        </p:nvPicPr>
        <p:blipFill>
          <a:blip r:embed="rId1"/>
          <a:stretch/>
        </p:blipFill>
        <p:spPr>
          <a:xfrm>
            <a:off x="4619520" y="2333520"/>
            <a:ext cx="45244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407240" y="214200"/>
            <a:ext cx="156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Or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85840" y="164304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You may think that big macs do taste good, but I’ll only have them every now and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www.instablogsimages.com/images/2007/08/01/how-healthy-is-your-fresh-salad-diet_9.jpg"/>
          <p:cNvPicPr/>
          <p:nvPr/>
        </p:nvPicPr>
        <p:blipFill>
          <a:blip r:embed="rId1"/>
          <a:stretch/>
        </p:blipFill>
        <p:spPr>
          <a:xfrm>
            <a:off x="68436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manhattanoffender.typepad.com/manhattanoffender/images/bigmac2.jpg"/>
          <p:cNvPicPr/>
          <p:nvPr/>
        </p:nvPicPr>
        <p:blipFill>
          <a:blip r:embed="rId2"/>
          <a:stretch/>
        </p:blipFill>
        <p:spPr>
          <a:xfrm>
            <a:off x="5003640" y="3541680"/>
            <a:ext cx="39294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instablogsimages.com/images/2007/08/01/how-healthy-is-your-fresh-salad-diet_9.jpg"/>
          <p:cNvPicPr/>
          <p:nvPr/>
        </p:nvPicPr>
        <p:blipFill>
          <a:blip r:embed="rId1"/>
          <a:stretch/>
        </p:blipFill>
        <p:spPr>
          <a:xfrm>
            <a:off x="0" y="392904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www.facets.org/images/super%20size%20me.jpg"/>
          <p:cNvPicPr/>
          <p:nvPr/>
        </p:nvPicPr>
        <p:blipFill>
          <a:blip r:embed="rId2"/>
          <a:stretch/>
        </p:blipFill>
        <p:spPr>
          <a:xfrm>
            <a:off x="6215040" y="392904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johnstamosfever.files.wordpress.com/2009/03/jules-eating-hamburger-pulp-fiction1.jpg"/>
          <p:cNvPicPr/>
          <p:nvPr/>
        </p:nvPicPr>
        <p:blipFill>
          <a:blip r:embed="rId3"/>
          <a:stretch/>
        </p:blipFill>
        <p:spPr>
          <a:xfrm>
            <a:off x="2928960" y="4443480"/>
            <a:ext cx="3214800" cy="24145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840" y="164304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 here we have three separate readings of that one adv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-images.warwick.ac.uk/fac/cross_fac/prizeforwriting/management/david-morley-colour-high-re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184560"/>
          </a:xfrm>
          <a:prstGeom prst="rect">
            <a:avLst/>
          </a:prstGeom>
          <a:ln w="0">
            <a:noFill/>
          </a:ln>
        </p:spPr>
      </p:pic>
      <p:sp>
        <p:nvSpPr>
          <p:cNvPr id="67" name="Rounded Rectangular Callout 2"/>
          <p:cNvSpPr/>
          <p:nvPr/>
        </p:nvSpPr>
        <p:spPr>
          <a:xfrm>
            <a:off x="2786040" y="0"/>
            <a:ext cx="6357960" cy="3933720"/>
          </a:xfrm>
          <a:prstGeom prst="wedgeRoundRectCallout">
            <a:avLst>
              <a:gd name="adj1" fmla="val -67703"/>
              <a:gd name="adj2" fmla="val 2624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1980 David Morley did a study of audience responses when watching the BBC TV show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potlight.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 a result of his research, he decided that audiences tend to fall into three groups based on their interpretation of the text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720" y="386064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eferr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2559960" y="4941720"/>
            <a:ext cx="34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gotiat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5400360" y="5950080"/>
            <a:ext cx="37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ppositional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2:44:05Z</dcterms:created>
  <dc:creator>gbrolly940</dc:creator>
  <dc:description/>
  <dc:language>en-US</dc:language>
  <cp:lastModifiedBy>Grainne</cp:lastModifiedBy>
  <dcterms:modified xsi:type="dcterms:W3CDTF">2010-10-08T11:58:17Z</dcterms:modified>
  <cp:revision>24</cp:revision>
  <dc:subject/>
  <dc:title>Audience</dc:title>
</cp:coreProperties>
</file>